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11ABF-9BA3-4AC0-9B64-E5702555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D0C9-FE65-4523-95D6-6E1F25280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12059-F1DE-4B24-82F1-280D8B417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E9F39-21E4-415D-98E8-982C5AA4E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4F4BC-F803-4882-A80A-AAF803BE6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FE0B6-3B2A-4941-BC6B-9711E0ECA2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C3CFE-7359-4B9A-8886-83E829157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E18E-2983-4214-95EA-BBE7FAA2E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80F3-B249-4DE0-AC36-13D2572D0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9F45-2E31-4337-9642-80A746561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36C3D-C377-4384-99D5-5B80D256E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53282-4C7E-47DD-BFB9-6888F5009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0B00F-5A7B-4F2D-9551-605804B3C1E7}" type="slidenum">
              <a:rPr b="0" lang="ja-JP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New photon detector R&amp;D for Megaton water cherencov detect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T 2007 May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050560" y="43920"/>
            <a:ext cx="5473800" cy="41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179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45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46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47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48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49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52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53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55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56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8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70836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66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67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ffffff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5435640" y="5373720"/>
            <a:ext cx="3384360" cy="1251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2023200" y="2421000"/>
            <a:ext cx="1322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Hybrid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709800" y="2630520"/>
            <a:ext cx="6638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M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438880" y="1844640"/>
            <a:ext cx="1625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ybrid Phot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tect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439600" y="4724280"/>
            <a:ext cx="3529080" cy="64260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Low noise Preamp ASIC on HP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+ Q-T/waveform recoder AS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llabor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549000"/>
            <a:ext cx="878544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It is difficult to finalize Mton detector system (incl. readout system) at pres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romise over performance and co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3132000" y="2349360"/>
            <a:ext cx="2089440" cy="1727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360" y="4365720"/>
            <a:ext cx="580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evelopment of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change information of R&amp;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Discussion of Mton detector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932360" y="4653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302520" y="4365720"/>
            <a:ext cx="1744200" cy="5205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508720" y="5661000"/>
            <a:ext cx="1150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06520" y="5300640"/>
            <a:ext cx="2161800" cy="82548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V confere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t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050920" y="44280"/>
            <a:ext cx="547380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&amp;D -two direction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287280" y="476280"/>
          <a:ext cx="8856720" cy="6192720"/>
        </p:xfrm>
        <a:graphic>
          <a:graphicData uri="http://schemas.openxmlformats.org/drawingml/2006/table">
            <a:tbl>
              <a:tblPr/>
              <a:tblGrid>
                <a:gridCol w="1584360"/>
                <a:gridCol w="3529080"/>
                <a:gridCol w="3743280"/>
              </a:tblGrid>
              <a:tr h="682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anc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pa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52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oton detector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57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dout system R&amp;D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87" name=""/>
          <p:cNvGrpSpPr/>
          <p:nvPr/>
        </p:nvGrpSpPr>
        <p:grpSpPr>
          <a:xfrm>
            <a:off x="1802520" y="1253520"/>
            <a:ext cx="1642320" cy="1888200"/>
            <a:chOff x="1802520" y="1253520"/>
            <a:chExt cx="1642320" cy="1888200"/>
          </a:xfrm>
        </p:grpSpPr>
        <p:grpSp>
          <p:nvGrpSpPr>
            <p:cNvPr id="88" name=""/>
            <p:cNvGrpSpPr/>
            <p:nvPr/>
          </p:nvGrpSpPr>
          <p:grpSpPr>
            <a:xfrm>
              <a:off x="1802520" y="1253520"/>
              <a:ext cx="1642320" cy="1888200"/>
              <a:chOff x="1802520" y="1253520"/>
              <a:chExt cx="1642320" cy="1888200"/>
            </a:xfrm>
          </p:grpSpPr>
          <p:grpSp>
            <p:nvGrpSpPr>
              <p:cNvPr id="89" name=""/>
              <p:cNvGrpSpPr/>
              <p:nvPr/>
            </p:nvGrpSpPr>
            <p:grpSpPr>
              <a:xfrm>
                <a:off x="1802520" y="1253520"/>
                <a:ext cx="1617120" cy="1611360"/>
                <a:chOff x="1802520" y="1253520"/>
                <a:chExt cx="1617120" cy="1611360"/>
              </a:xfrm>
            </p:grpSpPr>
            <p:grpSp>
              <p:nvGrpSpPr>
                <p:cNvPr id="90" name=""/>
                <p:cNvGrpSpPr/>
                <p:nvPr/>
              </p:nvGrpSpPr>
              <p:grpSpPr>
                <a:xfrm>
                  <a:off x="1802520" y="1253520"/>
                  <a:ext cx="1617120" cy="1609920"/>
                  <a:chOff x="1802520" y="1253520"/>
                  <a:chExt cx="1617120" cy="1609920"/>
                </a:xfrm>
              </p:grpSpPr>
              <p:sp>
                <p:nvSpPr>
                  <p:cNvPr id="91" name=""/>
                  <p:cNvSpPr/>
                  <p:nvPr/>
                </p:nvSpPr>
                <p:spPr>
                  <a:xfrm>
                    <a:off x="2336760" y="2067120"/>
                    <a:ext cx="642600" cy="796320"/>
                  </a:xfrm>
                  <a:custGeom>
                    <a:avLst/>
                    <a:gdLst>
                      <a:gd name="textAreaLeft" fmla="*/ 38880 w 642600"/>
                      <a:gd name="textAreaRight" fmla="*/ 603720 w 642600"/>
                      <a:gd name="textAreaTop" fmla="*/ 38880 h 796320"/>
                      <a:gd name="textAreaBottom" fmla="*/ 757440 h 796320"/>
                    </a:gdLst>
                    <a:ahLst/>
                    <a:rect l="textAreaLeft" t="textAreaTop" r="textAreaRight" b="textAreaBottom"/>
                    <a:pathLst>
                      <a:path w="21600" h="26764">
                        <a:moveTo>
                          <a:pt x="4493" y="0"/>
                        </a:moveTo>
                        <a:arcTo wR="4493" hR="4493" stAng="16200000" swAng="-5400000"/>
                        <a:lnTo>
                          <a:pt x="0" y="22271"/>
                        </a:lnTo>
                        <a:arcTo wR="4493" hR="4493" stAng="10800000" swAng="-5400000"/>
                        <a:lnTo>
                          <a:pt x="17107" y="26764"/>
                        </a:lnTo>
                        <a:arcTo wR="4493" hR="4493" stAng="5400000" swAng="-5400000"/>
                        <a:lnTo>
                          <a:pt x="21600" y="4493"/>
                        </a:lnTo>
                        <a:arcTo wR="4493" hR="4493" stAng="0" swAng="-5400000"/>
                        <a:close/>
                      </a:path>
                    </a:pathLst>
                  </a:cu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"/>
                  <p:cNvSpPr/>
                  <p:nvPr/>
                </p:nvSpPr>
                <p:spPr>
                  <a:xfrm>
                    <a:off x="1835280" y="1273680"/>
                    <a:ext cx="1584360" cy="1088280"/>
                  </a:xfrm>
                  <a:prstGeom prst="ellipse">
                    <a:avLst/>
                  </a:prstGeom>
                  <a:solidFill>
                    <a:srgbClr val="ffffff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"/>
                  <p:cNvSpPr/>
                  <p:nvPr/>
                </p:nvSpPr>
                <p:spPr>
                  <a:xfrm>
                    <a:off x="2355120" y="2246760"/>
                    <a:ext cx="608760" cy="160560"/>
                  </a:xfrm>
                  <a:prstGeom prst="rect">
                    <a:avLst/>
                  </a:prstGeom>
                  <a:solidFill>
                    <a:srgbClr val="ffffff"/>
                  </a:solidFill>
                  <a:ln w="1260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94" name=""/>
                  <p:cNvGrpSpPr/>
                  <p:nvPr/>
                </p:nvGrpSpPr>
                <p:grpSpPr>
                  <a:xfrm>
                    <a:off x="1802520" y="1253520"/>
                    <a:ext cx="1597680" cy="1037160"/>
                    <a:chOff x="1802520" y="1253520"/>
                    <a:chExt cx="1597680" cy="1037160"/>
                  </a:xfrm>
                </p:grpSpPr>
                <p:sp>
                  <p:nvSpPr>
                    <p:cNvPr id="95" name=""/>
                    <p:cNvSpPr/>
                    <p:nvPr/>
                  </p:nvSpPr>
                  <p:spPr>
                    <a:xfrm rot="21468000">
                      <a:off x="1820520" y="1282680"/>
                      <a:ext cx="1561320" cy="978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67352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67352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" name=""/>
                    <p:cNvSpPr/>
                    <p:nvPr/>
                  </p:nvSpPr>
                  <p:spPr>
                    <a:xfrm flipH="1" rot="66600">
                      <a:off x="1884240" y="1281600"/>
                      <a:ext cx="1486080" cy="978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stroke="0" w="21600" h="21600">
                          <a:moveTo>
                            <a:pt x="10842" y="0"/>
                          </a:moveTo>
                          <a:arcTo wR="10800" hR="10800" stAng="-5386777" swAng="5308926"/>
                          <a:lnTo>
                            <a:pt x="10800" y="10800"/>
                          </a:lnTo>
                          <a:close/>
                        </a:path>
                        <a:path fill="none" w="21600" h="21600">
                          <a:moveTo>
                            <a:pt x="10842" y="0"/>
                          </a:moveTo>
                          <a:arcTo wR="10800" hR="10800" stAng="-5386777" swAng="5308926"/>
                        </a:path>
                      </a:pathLst>
                    </a:custGeom>
                    <a:solidFill>
                      <a:srgbClr val="ffffff"/>
                    </a:solidFill>
                    <a:ln w="76320">
                      <a:solidFill>
                        <a:srgbClr val="ffcc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97" name=""/>
                <p:cNvGrpSpPr/>
                <p:nvPr/>
              </p:nvGrpSpPr>
              <p:grpSpPr>
                <a:xfrm>
                  <a:off x="2467800" y="2117160"/>
                  <a:ext cx="385560" cy="747720"/>
                  <a:chOff x="2467800" y="2117160"/>
                  <a:chExt cx="385560" cy="747720"/>
                </a:xfrm>
              </p:grpSpPr>
              <p:sp>
                <p:nvSpPr>
                  <p:cNvPr id="98" name=""/>
                  <p:cNvSpPr/>
                  <p:nvPr/>
                </p:nvSpPr>
                <p:spPr>
                  <a:xfrm>
                    <a:off x="2467800" y="2117160"/>
                    <a:ext cx="385560" cy="747720"/>
                  </a:xfrm>
                  <a:prstGeom prst="rect">
                    <a:avLst/>
                  </a:prstGeom>
                  <a:solidFill>
                    <a:srgbClr val="808080"/>
                  </a:solidFill>
                  <a:ln w="28440">
                    <a:solidFill>
                      <a:srgbClr val="99cc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"/>
                  <p:cNvSpPr/>
                  <p:nvPr/>
                </p:nvSpPr>
                <p:spPr>
                  <a:xfrm>
                    <a:off x="2478960" y="2856960"/>
                    <a:ext cx="362880" cy="2520"/>
                  </a:xfrm>
                  <a:prstGeom prst="line">
                    <a:avLst/>
                  </a:prstGeom>
                  <a:ln w="38160">
                    <a:solidFill>
                      <a:srgbClr val="80808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100" name="" descr=""/>
              <p:cNvPicPr/>
              <p:nvPr/>
            </p:nvPicPr>
            <p:blipFill>
              <a:blip r:embed="rId1"/>
              <a:srcRect l="48301" t="56375" r="40471" b="5752"/>
              <a:stretch/>
            </p:blipFill>
            <p:spPr>
              <a:xfrm>
                <a:off x="2497320" y="2141280"/>
                <a:ext cx="322920" cy="10004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1" name=""/>
              <p:cNvSpPr/>
              <p:nvPr/>
            </p:nvSpPr>
            <p:spPr>
              <a:xfrm>
                <a:off x="2532240" y="2068920"/>
                <a:ext cx="252720" cy="0"/>
              </a:xfrm>
              <a:prstGeom prst="line">
                <a:avLst/>
              </a:prstGeom>
              <a:ln w="76320">
                <a:solidFill>
                  <a:srgbClr val="0000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2087640" y="1405080"/>
                <a:ext cx="13572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cc00"/>
                    </a:solidFill>
                    <a:latin typeface="Comic Sans MS"/>
                  </a:rPr>
                  <a:t>Photocathode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"/>
            <p:cNvSpPr/>
            <p:nvPr/>
          </p:nvSpPr>
          <p:spPr>
            <a:xfrm>
              <a:off x="2346480" y="1772280"/>
              <a:ext cx="678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Scin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403720" y="2422800"/>
              <a:ext cx="616680" cy="337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000099"/>
                  </a:solidFill>
                  <a:latin typeface="Comic Sans MS"/>
                </a:rPr>
                <a:t>PM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" descr=""/>
          <p:cNvPicPr/>
          <p:nvPr/>
        </p:nvPicPr>
        <p:blipFill>
          <a:blip r:embed="rId2"/>
          <a:srcRect l="0" t="0" r="63264" b="6163"/>
          <a:stretch/>
        </p:blipFill>
        <p:spPr>
          <a:xfrm>
            <a:off x="3691080" y="1197000"/>
            <a:ext cx="1522440" cy="1944720"/>
          </a:xfrm>
          <a:prstGeom prst="rect">
            <a:avLst/>
          </a:prstGeom>
          <a:ln w="9360">
            <a:solidFill>
              <a:srgbClr val="000099"/>
            </a:solidFill>
            <a:miter/>
          </a:ln>
        </p:spPr>
      </p:pic>
      <p:pic>
        <p:nvPicPr>
          <p:cNvPr id="106" name="" descr=""/>
          <p:cNvPicPr/>
          <p:nvPr/>
        </p:nvPicPr>
        <p:blipFill>
          <a:blip r:embed="rId3">
            <a:lum bright="12000"/>
          </a:blip>
          <a:stretch/>
        </p:blipFill>
        <p:spPr>
          <a:xfrm>
            <a:off x="7020000" y="1268280"/>
            <a:ext cx="1838160" cy="1870200"/>
          </a:xfrm>
          <a:prstGeom prst="rect">
            <a:avLst/>
          </a:prstGeom>
          <a:ln w="0">
            <a:noFill/>
          </a:ln>
        </p:spPr>
      </p:pic>
      <p:grpSp>
        <p:nvGrpSpPr>
          <p:cNvPr id="107" name=""/>
          <p:cNvGrpSpPr/>
          <p:nvPr/>
        </p:nvGrpSpPr>
        <p:grpSpPr>
          <a:xfrm>
            <a:off x="2268360" y="3357720"/>
            <a:ext cx="2305080" cy="2232000"/>
            <a:chOff x="2268360" y="3357720"/>
            <a:chExt cx="2305080" cy="2232000"/>
          </a:xfrm>
        </p:grpSpPr>
        <p:pic>
          <p:nvPicPr>
            <p:cNvPr id="108" name="" descr=""/>
            <p:cNvPicPr/>
            <p:nvPr/>
          </p:nvPicPr>
          <p:blipFill>
            <a:blip r:embed="rId4"/>
            <a:srcRect l="17508" t="12557" r="13711" b="5953"/>
            <a:stretch/>
          </p:blipFill>
          <p:spPr>
            <a:xfrm>
              <a:off x="2268360" y="3357720"/>
              <a:ext cx="2305080" cy="2232000"/>
            </a:xfrm>
            <a:prstGeom prst="rect">
              <a:avLst/>
            </a:prstGeom>
            <a:ln w="9360">
              <a:solidFill>
                <a:srgbClr val="333399"/>
              </a:solidFill>
              <a:miter/>
            </a:ln>
          </p:spPr>
        </p:pic>
        <p:pic>
          <p:nvPicPr>
            <p:cNvPr id="109" name="" descr=""/>
            <p:cNvPicPr/>
            <p:nvPr/>
          </p:nvPicPr>
          <p:blipFill>
            <a:blip r:embed="rId5"/>
            <a:srcRect l="16077" t="9433" r="10749" b="5617"/>
            <a:stretch/>
          </p:blipFill>
          <p:spPr>
            <a:xfrm>
              <a:off x="2268360" y="4412520"/>
              <a:ext cx="1168920" cy="1176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6"/>
          <a:stretch/>
        </p:blipFill>
        <p:spPr>
          <a:xfrm>
            <a:off x="5508720" y="3270240"/>
            <a:ext cx="3384360" cy="19652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908000" y="5877000"/>
            <a:ext cx="31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Multichannel</a:t>
            </a:r>
            <a:r>
              <a:rPr b="0" lang="ja-JP" sz="1800" spc="-1" strike="noStrike">
                <a:solidFill>
                  <a:srgbClr val="99cc00"/>
                </a:solidFill>
                <a:latin typeface="Comic Sans MS"/>
              </a:rPr>
              <a:t> FE ASIC</a:t>
            </a:r>
            <a:r>
              <a:rPr b="0" lang="en-US" sz="1800" spc="-1" strike="noStrike">
                <a:solidFill>
                  <a:srgbClr val="99cc00"/>
                </a:solidFill>
                <a:latin typeface="Comic Sans MS"/>
              </a:rPr>
              <a:t>, close to the PM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700360" y="4869000"/>
            <a:ext cx="358920" cy="288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700000" y="5157720"/>
            <a:ext cx="142920" cy="7192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7"/>
          <a:stretch/>
        </p:blipFill>
        <p:spPr>
          <a:xfrm>
            <a:off x="5651640" y="5373720"/>
            <a:ext cx="2916000" cy="107784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5435640" y="1125360"/>
            <a:ext cx="3708360" cy="208764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908000" y="3213000"/>
            <a:ext cx="3454560" cy="3384720"/>
          </a:xfrm>
          <a:prstGeom prst="rect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rot="18900000">
            <a:off x="2916360" y="3212640"/>
            <a:ext cx="4564080" cy="936720"/>
          </a:xfrm>
          <a:prstGeom prst="leftRightArrow">
            <a:avLst>
              <a:gd name="adj1" fmla="val 50000"/>
              <a:gd name="adj2" fmla="val 96997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946320" y="3141720"/>
            <a:ext cx="2872080" cy="520560"/>
          </a:xfrm>
          <a:prstGeom prst="rect">
            <a:avLst/>
          </a:prstGeom>
          <a:solidFill>
            <a:srgbClr val="ffffff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comb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504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&gt; 10^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28160" y="1484280"/>
            <a:ext cx="184176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Qdet ~ 10^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0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12996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79280" y="765000"/>
            <a:ext cx="8856720" cy="59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aluation of FE-ASIC(MAROC2) with HPD in Jap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eived on Apri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IC design based on the result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Y2008 fal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ne by us (collaboration between F-J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27402" t="24231" r="26768" b="36105"/>
          <a:stretch/>
        </p:blipFill>
        <p:spPr>
          <a:xfrm>
            <a:off x="4952880" y="1268280"/>
            <a:ext cx="4191120" cy="271476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2843280" y="4941720"/>
            <a:ext cx="2016000" cy="93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18840" y="6021360"/>
            <a:ext cx="740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pplicable ASIC for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only HPD but also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ulti-pixel HP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nef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23640" y="1052640"/>
            <a:ext cx="8507160" cy="55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both sid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ave manpower for AS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ross measurements decrease bu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Japanese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ccess new technologies (AMS 0.35um process) with low ris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For French-s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Know-how of construction of large water cherencov detector based on SK experi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23T10:42:01Z</dcterms:created>
  <dc:creator>KEK</dc:creator>
  <dc:description/>
  <dc:language>en-US</dc:language>
  <cp:lastModifiedBy>J.E Campagne</cp:lastModifiedBy>
  <dcterms:modified xsi:type="dcterms:W3CDTF">2007-05-09T07:29:57Z</dcterms:modified>
  <cp:revision>11</cp:revision>
  <dc:subject/>
  <dc:title>New photon detector R&amp;D</dc:title>
</cp:coreProperties>
</file>